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D84-FA6A-4F63-A6FF-AB3EEF96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A44-D5EB-495A-B0D5-3F48C001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CF4-4092-4D6A-B097-8461511C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34E-CFEF-475D-84D8-A80682A2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A819-D152-4D19-82B0-BA02952B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84A3-2AB3-4C56-98A2-4860AD1B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B87C-BB20-4DB2-86FA-5201DDC0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D54F-AEE6-45C5-823B-09AE13D0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5709-436A-41D5-8C0E-62D9B710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B866-5E17-4077-B095-44059EA8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7EF2-3D53-4AA2-9C8E-D513BF2D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4AF-7CA5-4037-AE4D-08315454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0AE0-21F9-44F2-B918-22945D5A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E598-3214-4259-A4EC-974D4BF4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822B-70DD-4F98-97EB-DBD43E73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37CC-0A43-4DCC-84F2-92DFE803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66FC-D739-403A-A1A7-FAD07518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194-975B-4317-A74A-49663CE6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0BD-6FCF-439A-9C00-132C2F5F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D42-FADC-4B16-82C4-D15FFF94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33B-7EE6-4C23-B1EB-35B0FEEF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33A-C01A-47AB-AE25-8D4065D9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D79-8B4A-40F7-8025-DB8B6F13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5E6-E210-47B3-BBAE-B572AED8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3C87-A9B7-4677-8655-4713587BAA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B654-C323-4045-B326-141406B6D6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58,3,&#20943;&#23569;&#23615;&#34507;&#30333;&#30340;&#33647;&#29289;" TargetMode="External"/><Relationship Id="rId2" Type="http://schemas.openxmlformats.org/officeDocument/2006/relationships/hyperlink" Target="263,8,&#38477;&#21387;&#33647;" TargetMode="External"/><Relationship Id="rId3" Type="http://schemas.openxmlformats.org/officeDocument/2006/relationships/hyperlink" Target="269,14,&#21033;&#23615;&#28040;&#32959; " TargetMode="External"/><Relationship Id="rId4" Type="http://schemas.openxmlformats.org/officeDocument/2006/relationships/hyperlink" Target="273,18,&#33829;&#20859;&#27835;&#30103;" TargetMode="External"/><Relationship Id="rId5" Type="http://schemas.openxmlformats.org/officeDocument/2006/relationships/hyperlink" Target="274,19,&#25913;&#21892;&#36139;&#34880;" TargetMode="External"/><Relationship Id="rId6" Type="http://schemas.openxmlformats.org/officeDocument/2006/relationships/hyperlink" Target="277,22,&#35843;&#33410;&#38041;&#30967;&#20195;&#35874;&#65292;&#27835;&#30103;&#32958;&#24615;&#39592;&#30149; " TargetMode="External"/><Relationship Id="rId7" Type="http://schemas.openxmlformats.org/officeDocument/2006/relationships/hyperlink" Target="281,25,&#32963;&#32928;&#36947;&#21560;&#38468;&#21058; " TargetMode="External"/><Relationship Id="rId8" Type="http://schemas.openxmlformats.org/officeDocument/2006/relationships/hyperlink" Target="282,26,&#37240;&#30897;&#24179;&#34913;&#30340;&#35843;&#33410;&#21058;" TargetMode="Externa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268,9,&#34880;&#31649;&#32039;&#24352;&#32032;&#36716;&#25442;&#37238;&#25233;&#21046;&#21058;&#65288;ACEI&#65289;" TargetMode="External"/><Relationship Id="rId2" Type="http://schemas.openxmlformats.org/officeDocument/2006/relationships/hyperlink" Target="264,10,&#34880;&#31649;&#32039;&#24352;&#32032;&#8545;&#21463;&#20307;&#25326;&#25239;&#21058; &#65288;ARB&#65289;" TargetMode="External"/><Relationship Id="rId3" Type="http://schemas.openxmlformats.org/officeDocument/2006/relationships/hyperlink" Target="264,10,&#34880;&#31649;&#32039;&#24352;&#32032;&#8545;&#21463;&#20307;&#25326;&#25239;&#21058; &#65288;ARB&#65289;" TargetMode="External"/><Relationship Id="rId4" Type="http://schemas.openxmlformats.org/officeDocument/2006/relationships/hyperlink" Target="264,10,&#34880;&#31649;&#32039;&#24352;&#32032;&#8545;&#21463;&#20307;&#25326;&#25239;&#21058; &#65288;ARB&#65289;" TargetMode="External"/><Relationship Id="rId5" Type="http://schemas.openxmlformats.org/officeDocument/2006/relationships/hyperlink" Target="265,11,&#38041;&#36890;&#36947;&#38459;&#28382;&#21058; " TargetMode="External"/><Relationship Id="rId6" Type="http://schemas.openxmlformats.org/officeDocument/2006/relationships/hyperlink" Target="269,14,&#21033;&#23615;&#33647;" TargetMode="External"/><Relationship Id="rId7" Type="http://schemas.openxmlformats.org/officeDocument/2006/relationships/hyperlink" Target="266,12,&#946;&#21463;&#20307;&#38459;&#28382;&#21058; " TargetMode="External"/><Relationship Id="rId8" Type="http://schemas.openxmlformats.org/officeDocument/2006/relationships/hyperlink" Target="266,12,&#946;&#21463;&#20307;&#38459;&#28382;&#21058; " TargetMode="External"/><Relationship Id="rId9" Type="http://schemas.openxmlformats.org/officeDocument/2006/relationships/hyperlink" Target="267,13,&#945;&#21463;&#20307;&#38459;&#28382;&#21058; " TargetMode="External"/><Relationship Id="rId10" Type="http://schemas.openxmlformats.org/officeDocument/2006/relationships/hyperlink" Target="267,13,&#945;&#21463;&#20307;&#38459;&#28382;&#21058; " TargetMode="External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68,9,&#34880;&#31649;&#32039;&#24352;&#32032;&#36716;&#25442;&#37238;&#25233;&#21046;&#21058;&#65288;ACEI&#65289;" TargetMode="External"/><Relationship Id="rId2" Type="http://schemas.openxmlformats.org/officeDocument/2006/relationships/hyperlink" Target="264,10,&#34880;&#31649;&#32039;&#24352;&#32032;&#8545;&#21463;&#20307;&#25326;&#25239;&#21058; &#65288;ARB&#65289;" TargetMode="External"/><Relationship Id="rId3" Type="http://schemas.openxmlformats.org/officeDocument/2006/relationships/hyperlink" Target="264,10,&#34880;&#31649;&#32039;&#24352;&#32032;&#8545;&#21463;&#20307;&#25326;&#25239;&#21058; &#65288;ARB&#65289;" TargetMode="External"/><Relationship Id="rId4" Type="http://schemas.openxmlformats.org/officeDocument/2006/relationships/hyperlink" Target="264,10,&#34880;&#31649;&#32039;&#24352;&#32032;&#8545;&#21463;&#20307;&#25326;&#25239;&#21058; &#65288;ARB&#65289;" TargetMode="External"/><Relationship Id="rId5" Type="http://schemas.openxmlformats.org/officeDocument/2006/relationships/hyperlink" Target="265,11,&#38041;&#36890;&#36947;&#38459;&#28382;&#21058; " TargetMode="External"/><Relationship Id="rId6" Type="http://schemas.openxmlformats.org/officeDocument/2006/relationships/hyperlink" Target="269,14,&#21033;&#23615;&#33647;" TargetMode="External"/><Relationship Id="rId7" Type="http://schemas.openxmlformats.org/officeDocument/2006/relationships/hyperlink" Target="266,12,&#946;&#21463;&#20307;&#38459;&#28382;&#21058; " TargetMode="External"/><Relationship Id="rId8" Type="http://schemas.openxmlformats.org/officeDocument/2006/relationships/hyperlink" Target="266,12,&#946;&#21463;&#20307;&#38459;&#28382;&#21058; " TargetMode="External"/><Relationship Id="rId9" Type="http://schemas.openxmlformats.org/officeDocument/2006/relationships/hyperlink" Target="267,13,&#945;&#21463;&#20307;&#38459;&#28382;&#21058; " TargetMode="External"/><Relationship Id="rId10" Type="http://schemas.openxmlformats.org/officeDocument/2006/relationships/hyperlink" Target="267,13,&#945;&#21463;&#20307;&#38459;&#28382;&#21058; " TargetMode="Externa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268,9,&#34880;&#31649;&#32039;&#24352;&#32032;&#36716;&#25442;&#37238;&#25233;&#21046;&#21058;&#65288;ACEI&#65289;" TargetMode="External"/><Relationship Id="rId2" Type="http://schemas.openxmlformats.org/officeDocument/2006/relationships/hyperlink" Target="264,10,&#34880;&#31649;&#32039;&#24352;&#32032;&#8545;&#21463;&#20307;&#25326;&#25239;&#21058; &#65288;ARB&#65289;" TargetMode="External"/><Relationship Id="rId3" Type="http://schemas.openxmlformats.org/officeDocument/2006/relationships/hyperlink" Target="264,10,&#34880;&#31649;&#32039;&#24352;&#32032;&#8545;&#21463;&#20307;&#25326;&#25239;&#21058; &#65288;ARB&#65289;" TargetMode="External"/><Relationship Id="rId4" Type="http://schemas.openxmlformats.org/officeDocument/2006/relationships/hyperlink" Target="264,10,&#34880;&#31649;&#32039;&#24352;&#32032;&#8545;&#21463;&#20307;&#25326;&#25239;&#21058; &#65288;ARB&#65289;" TargetMode="External"/><Relationship Id="rId5" Type="http://schemas.openxmlformats.org/officeDocument/2006/relationships/hyperlink" Target="265,11,&#38041;&#36890;&#36947;&#38459;&#28382;&#21058; " TargetMode="External"/><Relationship Id="rId6" Type="http://schemas.openxmlformats.org/officeDocument/2006/relationships/hyperlink" Target="269,14,&#21033;&#23615;&#33647;" TargetMode="External"/><Relationship Id="rId7" Type="http://schemas.openxmlformats.org/officeDocument/2006/relationships/hyperlink" Target="266,12,&#946;&#21463;&#20307;&#38459;&#28382;&#21058; " TargetMode="External"/><Relationship Id="rId8" Type="http://schemas.openxmlformats.org/officeDocument/2006/relationships/hyperlink" Target="266,12,&#946;&#21463;&#20307;&#38459;&#28382;&#21058; " TargetMode="External"/><Relationship Id="rId9" Type="http://schemas.openxmlformats.org/officeDocument/2006/relationships/hyperlink" Target="267,13,&#945;&#21463;&#20307;&#38459;&#28382;&#21058; " TargetMode="External"/><Relationship Id="rId10" Type="http://schemas.openxmlformats.org/officeDocument/2006/relationships/hyperlink" Target="267,13,&#945;&#21463;&#20307;&#38459;&#28382;&#21058; " TargetMode="External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268,9,&#34880;&#31649;&#32039;&#24352;&#32032;&#36716;&#25442;&#37238;&#25233;&#21046;&#21058;&#65288;ACEI&#65289;" TargetMode="External"/><Relationship Id="rId2" Type="http://schemas.openxmlformats.org/officeDocument/2006/relationships/hyperlink" Target="264,10,&#34880;&#31649;&#32039;&#24352;&#32032;&#8545;&#21463;&#20307;&#25326;&#25239;&#21058; &#65288;ARB&#65289;" TargetMode="External"/><Relationship Id="rId3" Type="http://schemas.openxmlformats.org/officeDocument/2006/relationships/hyperlink" Target="264,10,&#34880;&#31649;&#32039;&#24352;&#32032;&#8545;&#21463;&#20307;&#25326;&#25239;&#21058; &#65288;ARB&#65289;" TargetMode="External"/><Relationship Id="rId4" Type="http://schemas.openxmlformats.org/officeDocument/2006/relationships/hyperlink" Target="264,10,&#34880;&#31649;&#32039;&#24352;&#32032;&#8545;&#21463;&#20307;&#25326;&#25239;&#21058; &#65288;ARB&#65289;" TargetMode="External"/><Relationship Id="rId5" Type="http://schemas.openxmlformats.org/officeDocument/2006/relationships/hyperlink" Target="265,11,&#38041;&#36890;&#36947;&#38459;&#28382;&#21058; " TargetMode="External"/><Relationship Id="rId6" Type="http://schemas.openxmlformats.org/officeDocument/2006/relationships/hyperlink" Target="269,14,&#21033;&#23615;&#33647;" TargetMode="External"/><Relationship Id="rId7" Type="http://schemas.openxmlformats.org/officeDocument/2006/relationships/hyperlink" Target="266,12,&#946;&#21463;&#20307;&#38459;&#28382;&#21058; " TargetMode="External"/><Relationship Id="rId8" Type="http://schemas.openxmlformats.org/officeDocument/2006/relationships/hyperlink" Target="266,12,&#946;&#21463;&#20307;&#38459;&#28382;&#21058; " TargetMode="External"/><Relationship Id="rId9" Type="http://schemas.openxmlformats.org/officeDocument/2006/relationships/hyperlink" Target="267,13,&#945;&#21463;&#20307;&#38459;&#28382;&#21058; " TargetMode="External"/><Relationship Id="rId10" Type="http://schemas.openxmlformats.org/officeDocument/2006/relationships/hyperlink" Target="267,13,&#945;&#21463;&#20307;&#38459;&#28382;&#21058; " TargetMode="External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20943;&#23569;&#23615;&#34507;&#30333;&#30340;&#33647;&#29289;" TargetMode="External"/><Relationship Id="rId2" Type="http://schemas.openxmlformats.org/officeDocument/2006/relationships/hyperlink" Target="263,8,&#38477;&#21387;&#33647;" TargetMode="External"/><Relationship Id="rId3" Type="http://schemas.openxmlformats.org/officeDocument/2006/relationships/hyperlink" Target="269,14,&#21033;&#23615;&#28040;&#32959; " TargetMode="External"/><Relationship Id="rId4" Type="http://schemas.openxmlformats.org/officeDocument/2006/relationships/hyperlink" Target="273,18,&#33829;&#20859;&#27835;&#30103;" TargetMode="External"/><Relationship Id="rId5" Type="http://schemas.openxmlformats.org/officeDocument/2006/relationships/hyperlink" Target="274,19,&#25913;&#21892;&#36139;&#34880;" TargetMode="External"/><Relationship Id="rId6" Type="http://schemas.openxmlformats.org/officeDocument/2006/relationships/hyperlink" Target="277,22,&#35843;&#33410;&#38041;&#30967;&#20195;&#35874;&#65292;&#27835;&#30103;&#32958;&#24615;&#39592;&#30149; " TargetMode="External"/><Relationship Id="rId7" Type="http://schemas.openxmlformats.org/officeDocument/2006/relationships/hyperlink" Target="281,25,&#32963;&#32928;&#36947;&#21560;&#38468;&#21058; " TargetMode="External"/><Relationship Id="rId8" Type="http://schemas.openxmlformats.org/officeDocument/2006/relationships/hyperlink" Target="282,26,&#37240;&#30897;&#24179;&#34913;&#30340;&#35843;&#33410;&#21058;" TargetMode="Externa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268,9,&#34880;&#31649;&#32039;&#24352;&#32032;&#36716;&#25442;&#37238;&#25233;&#21046;&#21058;&#65288;ACEI&#65289;" TargetMode="External"/><Relationship Id="rId2" Type="http://schemas.openxmlformats.org/officeDocument/2006/relationships/hyperlink" Target="264,10,&#34880;&#31649;&#32039;&#24352;&#32032;&#8545;&#21463;&#20307;&#25326;&#25239;&#21058; &#65288;ARB&#65289;" TargetMode="External"/><Relationship Id="rId3" Type="http://schemas.openxmlformats.org/officeDocument/2006/relationships/hyperlink" Target="264,10,&#34880;&#31649;&#32039;&#24352;&#32032;&#8545;&#21463;&#20307;&#25326;&#25239;&#21058; &#65288;ARB&#65289;" TargetMode="External"/><Relationship Id="rId4" Type="http://schemas.openxmlformats.org/officeDocument/2006/relationships/hyperlink" Target="264,10,&#34880;&#31649;&#32039;&#24352;&#32032;&#8545;&#21463;&#20307;&#25326;&#25239;&#21058; &#65288;ARB&#65289;" TargetMode="External"/><Relationship Id="rId5" Type="http://schemas.openxmlformats.org/officeDocument/2006/relationships/hyperlink" Target="265,11,&#38041;&#36890;&#36947;&#38459;&#28382;&#21058; " TargetMode="External"/><Relationship Id="rId6" Type="http://schemas.openxmlformats.org/officeDocument/2006/relationships/hyperlink" Target="269,14,&#21033;&#23615;&#33647;" TargetMode="External"/><Relationship Id="rId7" Type="http://schemas.openxmlformats.org/officeDocument/2006/relationships/hyperlink" Target="266,12,&#946;&#21463;&#20307;&#38459;&#28382;&#21058; " TargetMode="External"/><Relationship Id="rId8" Type="http://schemas.openxmlformats.org/officeDocument/2006/relationships/hyperlink" Target="266,12,&#946;&#21463;&#20307;&#38459;&#28382;&#21058; " TargetMode="External"/><Relationship Id="rId9" Type="http://schemas.openxmlformats.org/officeDocument/2006/relationships/hyperlink" Target="267,13,&#945;&#21463;&#20307;&#38459;&#28382;&#21058; " TargetMode="External"/><Relationship Id="rId10" Type="http://schemas.openxmlformats.org/officeDocument/2006/relationships/hyperlink" Target="267,13,&#945;&#21463;&#20307;&#38459;&#28382;&#21058; " TargetMode="External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258,3,&#20943;&#23569;&#23615;&#34507;&#30333;&#30340;&#33647;&#29289;" TargetMode="External"/><Relationship Id="rId2" Type="http://schemas.openxmlformats.org/officeDocument/2006/relationships/hyperlink" Target="263,8,&#38477;&#21387;&#33647;" TargetMode="External"/><Relationship Id="rId3" Type="http://schemas.openxmlformats.org/officeDocument/2006/relationships/hyperlink" Target="269,14,&#21033;&#23615;&#28040;&#32959; " TargetMode="External"/><Relationship Id="rId4" Type="http://schemas.openxmlformats.org/officeDocument/2006/relationships/hyperlink" Target="273,18,&#33829;&#20859;&#27835;&#30103;" TargetMode="External"/><Relationship Id="rId5" Type="http://schemas.openxmlformats.org/officeDocument/2006/relationships/hyperlink" Target="274,19,&#25913;&#21892;&#36139;&#34880;" TargetMode="External"/><Relationship Id="rId6" Type="http://schemas.openxmlformats.org/officeDocument/2006/relationships/hyperlink" Target="277,22,&#35843;&#33410;&#38041;&#30967;&#20195;&#35874;&#65292;&#27835;&#30103;&#32958;&#24615;&#39592;&#30149; " TargetMode="External"/><Relationship Id="rId7" Type="http://schemas.openxmlformats.org/officeDocument/2006/relationships/hyperlink" Target="281,25,&#32963;&#32928;&#36947;&#21560;&#38468;&#21058; " TargetMode="External"/><Relationship Id="rId8" Type="http://schemas.openxmlformats.org/officeDocument/2006/relationships/hyperlink" Target="282,26,&#37240;&#30897;&#24179;&#34913;&#30340;&#35843;&#33410;&#21058;" TargetMode="Externa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270,24,&#35195;&#21033;&#23615;&#21058;" TargetMode="External"/><Relationship Id="rId2" Type="http://schemas.openxmlformats.org/officeDocument/2006/relationships/hyperlink" Target="271,26,&#22139;&#21994;&#31867;&#21033;&#23615;&#21058; " TargetMode="External"/><Relationship Id="rId3" Type="http://schemas.openxmlformats.org/officeDocument/2006/relationships/hyperlink" Target="272,28,&#20445;&#38078;&#21033;&#23615;&#21058; 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270,24,&#35195;&#21033;&#23615;&#21058;" TargetMode="External"/><Relationship Id="rId2" Type="http://schemas.openxmlformats.org/officeDocument/2006/relationships/hyperlink" Target="271,26,&#22139;&#21994;&#31867;&#21033;&#23615;&#21058; " TargetMode="External"/><Relationship Id="rId3" Type="http://schemas.openxmlformats.org/officeDocument/2006/relationships/hyperlink" Target="272,28,&#20445;&#38078;&#21033;&#23615;&#21058; 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270,24,&#35195;&#21033;&#23615;&#21058;" TargetMode="External"/><Relationship Id="rId2" Type="http://schemas.openxmlformats.org/officeDocument/2006/relationships/hyperlink" Target="271,26,&#22139;&#21994;&#31867;&#21033;&#23615;&#21058; " TargetMode="External"/><Relationship Id="rId3" Type="http://schemas.openxmlformats.org/officeDocument/2006/relationships/hyperlink" Target="272,28,&#20445;&#38078;&#21033;&#23615;&#21058; 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258,3,&#20943;&#23569;&#23615;&#34507;&#30333;&#30340;&#33647;&#29289;" TargetMode="External"/><Relationship Id="rId2" Type="http://schemas.openxmlformats.org/officeDocument/2006/relationships/hyperlink" Target="263,8,&#38477;&#21387;&#33647;" TargetMode="External"/><Relationship Id="rId3" Type="http://schemas.openxmlformats.org/officeDocument/2006/relationships/hyperlink" Target="269,14,&#21033;&#23615;&#28040;&#32959; " TargetMode="External"/><Relationship Id="rId4" Type="http://schemas.openxmlformats.org/officeDocument/2006/relationships/hyperlink" Target="273,18,&#33829;&#20859;&#27835;&#30103;" TargetMode="External"/><Relationship Id="rId5" Type="http://schemas.openxmlformats.org/officeDocument/2006/relationships/hyperlink" Target="274,19,&#25913;&#21892;&#36139;&#34880;" TargetMode="External"/><Relationship Id="rId6" Type="http://schemas.openxmlformats.org/officeDocument/2006/relationships/hyperlink" Target="277,22,&#35843;&#33410;&#38041;&#30967;&#20195;&#35874;&#65292;&#27835;&#30103;&#32958;&#24615;&#39592;&#30149; " TargetMode="External"/><Relationship Id="rId7" Type="http://schemas.openxmlformats.org/officeDocument/2006/relationships/hyperlink" Target="281,25,&#32963;&#32928;&#36947;&#21560;&#38468;&#21058; " TargetMode="External"/><Relationship Id="rId8" Type="http://schemas.openxmlformats.org/officeDocument/2006/relationships/hyperlink" Target="282,26,&#37240;&#30897;&#24179;&#34913;&#30340;&#35843;&#33410;&#21058;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9,4,&#31958;&#30382;&#36136;&#28608;&#32032;" TargetMode="External"/><Relationship Id="rId2" Type="http://schemas.openxmlformats.org/officeDocument/2006/relationships/hyperlink" Target="260,5,&#29615;&#23394;&#32032;A&#65288;&#23665;&#22320;&#26126;&#65289;" TargetMode="External"/><Relationship Id="rId3" Type="http://schemas.openxmlformats.org/officeDocument/2006/relationships/hyperlink" Target="260,5,&#29615;&#23394;&#32032;A&#65288;&#23665;&#22320;&#26126;&#65289;" TargetMode="External"/><Relationship Id="rId4" Type="http://schemas.openxmlformats.org/officeDocument/2006/relationships/hyperlink" Target="261,6,&#39553;&#24713;&#65288;&#38665;&#37210;&#37240;&#37231;&#65289;" TargetMode="External"/><Relationship Id="rId5" Type="http://schemas.openxmlformats.org/officeDocument/2006/relationships/hyperlink" Target="262,7,&#29615;&#30967;&#37232;&#33018;" TargetMode="Externa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258,3,&#20943;&#23569;&#23615;&#34507;&#30333;&#30340;&#33647;&#29289;" TargetMode="External"/><Relationship Id="rId2" Type="http://schemas.openxmlformats.org/officeDocument/2006/relationships/hyperlink" Target="263,8,&#38477;&#21387;&#33647;" TargetMode="External"/><Relationship Id="rId3" Type="http://schemas.openxmlformats.org/officeDocument/2006/relationships/hyperlink" Target="269,14,&#21033;&#23615;&#28040;&#32959; " TargetMode="External"/><Relationship Id="rId4" Type="http://schemas.openxmlformats.org/officeDocument/2006/relationships/hyperlink" Target="273,18,&#33829;&#20859;&#27835;&#30103;" TargetMode="External"/><Relationship Id="rId5" Type="http://schemas.openxmlformats.org/officeDocument/2006/relationships/hyperlink" Target="274,19,&#25913;&#21892;&#36139;&#34880;" TargetMode="External"/><Relationship Id="rId6" Type="http://schemas.openxmlformats.org/officeDocument/2006/relationships/hyperlink" Target="277,22,&#35843;&#33410;&#38041;&#30967;&#20195;&#35874;&#65292;&#27835;&#30103;&#32958;&#24615;&#39592;&#30149; " TargetMode="External"/><Relationship Id="rId7" Type="http://schemas.openxmlformats.org/officeDocument/2006/relationships/hyperlink" Target="281,25,&#32963;&#32928;&#36947;&#21560;&#38468;&#21058; " TargetMode="External"/><Relationship Id="rId8" Type="http://schemas.openxmlformats.org/officeDocument/2006/relationships/hyperlink" Target="282,26,&#37240;&#30897;&#24179;&#34913;&#30340;&#35843;&#33410;&#21058;" TargetMode="External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275,33,&#20419;&#32418;&#32454;&#32990;&#29983;&#25104;&#32032;" TargetMode="External"/><Relationship Id="rId2" Type="http://schemas.openxmlformats.org/officeDocument/2006/relationships/hyperlink" Target="276,34,&#38081;&#21058;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275,33,&#20419;&#32418;&#32454;&#32990;&#29983;&#25104;&#32032;" TargetMode="External"/><Relationship Id="rId2" Type="http://schemas.openxmlformats.org/officeDocument/2006/relationships/hyperlink" Target="276,34,&#38081;&#21058;" TargetMode="Externa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258,3,&#20943;&#23569;&#23615;&#34507;&#30333;&#30340;&#33647;&#29289;" TargetMode="External"/><Relationship Id="rId2" Type="http://schemas.openxmlformats.org/officeDocument/2006/relationships/hyperlink" Target="263,8,&#38477;&#21387;&#33647;" TargetMode="External"/><Relationship Id="rId3" Type="http://schemas.openxmlformats.org/officeDocument/2006/relationships/hyperlink" Target="269,14,&#21033;&#23615;&#28040;&#32959; " TargetMode="External"/><Relationship Id="rId4" Type="http://schemas.openxmlformats.org/officeDocument/2006/relationships/hyperlink" Target="273,18,&#33829;&#20859;&#27835;&#30103;" TargetMode="External"/><Relationship Id="rId5" Type="http://schemas.openxmlformats.org/officeDocument/2006/relationships/hyperlink" Target="274,19,&#25913;&#21892;&#36139;&#34880;" TargetMode="External"/><Relationship Id="rId6" Type="http://schemas.openxmlformats.org/officeDocument/2006/relationships/hyperlink" Target="277,22,&#35843;&#33410;&#38041;&#30967;&#20195;&#35874;&#65292;&#27835;&#30103;&#32958;&#24615;&#39592;&#30149; " TargetMode="External"/><Relationship Id="rId7" Type="http://schemas.openxmlformats.org/officeDocument/2006/relationships/hyperlink" Target="281,25,&#32963;&#32928;&#36947;&#21560;&#38468;&#21058; " TargetMode="External"/><Relationship Id="rId8" Type="http://schemas.openxmlformats.org/officeDocument/2006/relationships/hyperlink" Target="282,26,&#37240;&#30897;&#24179;&#34913;&#30340;&#35843;&#33410;&#21058;" TargetMode="External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278,38,&#30967;&#32467;&#21512;&#21058;" TargetMode="External"/><Relationship Id="rId2" Type="http://schemas.openxmlformats.org/officeDocument/2006/relationships/hyperlink" Target="279,39,&#27963;&#24615;&#32500;&#29983;&#32032;D3" TargetMode="External"/><Relationship Id="rId3" Type="http://schemas.openxmlformats.org/officeDocument/2006/relationships/hyperlink" Target="279,39,&#27963;&#24615;&#32500;&#29983;&#32032;D3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278,38,&#30967;&#32467;&#21512;&#21058;" TargetMode="External"/><Relationship Id="rId2" Type="http://schemas.openxmlformats.org/officeDocument/2006/relationships/hyperlink" Target="279,39,&#27963;&#24615;&#32500;&#29983;&#32032;D3" TargetMode="External"/><Relationship Id="rId3" Type="http://schemas.openxmlformats.org/officeDocument/2006/relationships/hyperlink" Target="279,39,&#27963;&#24615;&#32500;&#29983;&#32032;D3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258,3,&#20943;&#23569;&#23615;&#34507;&#30333;&#30340;&#33647;&#29289;" TargetMode="External"/><Relationship Id="rId2" Type="http://schemas.openxmlformats.org/officeDocument/2006/relationships/hyperlink" Target="263,8,&#38477;&#21387;&#33647;" TargetMode="External"/><Relationship Id="rId3" Type="http://schemas.openxmlformats.org/officeDocument/2006/relationships/hyperlink" Target="269,14,&#21033;&#23615;&#28040;&#32959; " TargetMode="External"/><Relationship Id="rId4" Type="http://schemas.openxmlformats.org/officeDocument/2006/relationships/hyperlink" Target="273,18,&#33829;&#20859;&#27835;&#30103;" TargetMode="External"/><Relationship Id="rId5" Type="http://schemas.openxmlformats.org/officeDocument/2006/relationships/hyperlink" Target="274,19,&#25913;&#21892;&#36139;&#34880;" TargetMode="External"/><Relationship Id="rId6" Type="http://schemas.openxmlformats.org/officeDocument/2006/relationships/hyperlink" Target="277,22,&#35843;&#33410;&#38041;&#30967;&#20195;&#35874;&#65292;&#27835;&#30103;&#32958;&#24615;&#39592;&#30149; " TargetMode="External"/><Relationship Id="rId7" Type="http://schemas.openxmlformats.org/officeDocument/2006/relationships/hyperlink" Target="281,25,&#32963;&#32928;&#36947;&#21560;&#38468;&#21058; " TargetMode="External"/><Relationship Id="rId8" Type="http://schemas.openxmlformats.org/officeDocument/2006/relationships/hyperlink" Target="282,26,&#37240;&#30897;&#24179;&#34913;&#30340;&#35843;&#33410;&#21058;" TargetMode="External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258,3,&#20943;&#23569;&#23615;&#34507;&#30333;&#30340;&#33647;&#29289;" TargetMode="External"/><Relationship Id="rId2" Type="http://schemas.openxmlformats.org/officeDocument/2006/relationships/hyperlink" Target="263,8,&#38477;&#21387;&#33647;" TargetMode="External"/><Relationship Id="rId3" Type="http://schemas.openxmlformats.org/officeDocument/2006/relationships/hyperlink" Target="269,14,&#21033;&#23615;&#28040;&#32959; " TargetMode="External"/><Relationship Id="rId4" Type="http://schemas.openxmlformats.org/officeDocument/2006/relationships/hyperlink" Target="273,18,&#33829;&#20859;&#27835;&#30103;" TargetMode="External"/><Relationship Id="rId5" Type="http://schemas.openxmlformats.org/officeDocument/2006/relationships/hyperlink" Target="274,19,&#25913;&#21892;&#36139;&#34880;" TargetMode="External"/><Relationship Id="rId6" Type="http://schemas.openxmlformats.org/officeDocument/2006/relationships/hyperlink" Target="277,22,&#35843;&#33410;&#38041;&#30967;&#20195;&#35874;&#65292;&#27835;&#30103;&#32958;&#24615;&#39592;&#30149; " TargetMode="External"/><Relationship Id="rId7" Type="http://schemas.openxmlformats.org/officeDocument/2006/relationships/hyperlink" Target="281,25,&#32963;&#32928;&#36947;&#21560;&#38468;&#21058; " TargetMode="External"/><Relationship Id="rId8" Type="http://schemas.openxmlformats.org/officeDocument/2006/relationships/hyperlink" Target="282,26,&#37240;&#30897;&#24179;&#34913;&#30340;&#35843;&#33410;&#21058;" TargetMode="External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59,4,&#31958;&#30382;&#36136;&#28608;&#32032;" TargetMode="External"/><Relationship Id="rId2" Type="http://schemas.openxmlformats.org/officeDocument/2006/relationships/hyperlink" Target="260,5,&#29615;&#23394;&#32032;A&#65288;&#23665;&#22320;&#26126;&#65289;" TargetMode="External"/><Relationship Id="rId3" Type="http://schemas.openxmlformats.org/officeDocument/2006/relationships/hyperlink" Target="260,5,&#29615;&#23394;&#32032;A&#65288;&#23665;&#22320;&#26126;&#65289;" TargetMode="External"/><Relationship Id="rId4" Type="http://schemas.openxmlformats.org/officeDocument/2006/relationships/hyperlink" Target="261,6,&#39553;&#24713;&#65288;&#38665;&#37210;&#37240;&#37231;&#65289;" TargetMode="External"/><Relationship Id="rId5" Type="http://schemas.openxmlformats.org/officeDocument/2006/relationships/hyperlink" Target="262,7,&#29615;&#30967;&#37232;&#33018;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59,4,&#31958;&#30382;&#36136;&#28608;&#32032;" TargetMode="External"/><Relationship Id="rId2" Type="http://schemas.openxmlformats.org/officeDocument/2006/relationships/hyperlink" Target="260,5,&#29615;&#23394;&#32032;A&#65288;&#23665;&#22320;&#26126;&#65289;" TargetMode="External"/><Relationship Id="rId3" Type="http://schemas.openxmlformats.org/officeDocument/2006/relationships/hyperlink" Target="260,5,&#29615;&#23394;&#32032;A&#65288;&#23665;&#22320;&#26126;&#65289;" TargetMode="External"/><Relationship Id="rId4" Type="http://schemas.openxmlformats.org/officeDocument/2006/relationships/hyperlink" Target="261,6,&#39553;&#24713;&#65288;&#38665;&#37210;&#37240;&#37231;&#65289;" TargetMode="External"/><Relationship Id="rId5" Type="http://schemas.openxmlformats.org/officeDocument/2006/relationships/hyperlink" Target="262,7,&#29615;&#30967;&#37232;&#33018;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59,4,&#31958;&#30382;&#36136;&#28608;&#32032;" TargetMode="External"/><Relationship Id="rId2" Type="http://schemas.openxmlformats.org/officeDocument/2006/relationships/hyperlink" Target="260,5,&#29615;&#23394;&#32032;A&#65288;&#23665;&#22320;&#26126;&#65289;" TargetMode="External"/><Relationship Id="rId3" Type="http://schemas.openxmlformats.org/officeDocument/2006/relationships/hyperlink" Target="260,5,&#29615;&#23394;&#32032;A&#65288;&#23665;&#22320;&#26126;&#65289;" TargetMode="External"/><Relationship Id="rId4" Type="http://schemas.openxmlformats.org/officeDocument/2006/relationships/hyperlink" Target="261,6,&#39553;&#24713;&#65288;&#38665;&#37210;&#37240;&#37231;&#65289;" TargetMode="External"/><Relationship Id="rId5" Type="http://schemas.openxmlformats.org/officeDocument/2006/relationships/hyperlink" Target="262,7,&#29615;&#30967;&#37232;&#33018;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13012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ecff"/>
                </a:solidFill>
                <a:latin typeface="Arial"/>
              </a:rPr>
              <a:t>肾病科常用药物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环磷酰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适应症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：广泛应用的抗癌药物，对恶性淋巴瘤、急性或慢性淋巴细胞白血病、多发性骨髓瘤有较好的疗效，对乳腺癌、睾丸肿瘤、卵巢癌、肺癌、头颈部鳞癌、鼻咽癌、神经母细胞瘤、横纹肌肉瘤及骨肉瘤均有一定的疗效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用法用量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成人常用量：口服每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mg/kg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连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天，休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周重复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儿童常用量：口服每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mg/kg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连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天，休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周重复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注意事项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：骨髓抑制，中毒性肝损害，性腺抑制，胃肠道反应，脱发，出血性膀胱炎，远期肿瘤；用药前后要密切监测血常规，监测肝功能，在用药时注意水化和碱化，可加用美司钠对抗膀胱毒性，可予胃复安等对证处理；凡有骨髓抑制、感染、肝肾功能损害者禁用或慎用。对本品过敏者禁用。妊娠及哺乳期妇女禁用。 </a:t>
            </a:r>
            <a:br>
              <a:rPr sz="2000"/>
            </a:br>
            <a:br>
              <a:rPr sz="2000"/>
            </a:br>
            <a:br>
              <a:rPr sz="18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主要分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减少尿蛋白的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降压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利尿消肿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营养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改善贫血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治疗肾性骨病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胃肠道吸附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酸碱平衡的调节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降压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91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血管紧张素转换酶抑制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血管紧张素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Ⅱ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受体拮抗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钙通道阻滞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利尿药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β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受体阻滞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α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受体阻滞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血管紧张素转换酶抑制剂（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EI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肾保护作用机理：阻断肾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管紧张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醛固酮系统，降低系统高压，降低肾小球内高压，减少蛋白尿，延缓肾损害的进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常用药物：卡托普利（开博通） ，依那普利，贝那普利（洛汀新），福辛普利（蒙诺），培哚普利（雅施达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副作用：咳嗽，血钾增高，血清肌酐暂时上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注意事项：存在脱水、中重度肾功能不全或双侧肾动脉狭窄的患者不宜选用这类药物，服药期间要注意监测血压、血钾和肾功能，疗效受钠盐摄入的影响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降压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91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血管紧张素转换酶抑制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血管紧张素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Ⅱ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受体拮抗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钙通道阻滞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利尿药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β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受体阻滞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α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受体阻滞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血管紧张素Ⅱ受体拮抗剂 （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RB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肾保护机制：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EI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作用机理类似，能阻断肾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管紧张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醛固酮系统，除了降压以外，还有独特的肾保护作用，能减少蛋白尿，延缓肾损害的进展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常用药物：氯沙坦（科素亚），缬沙坦（代文），（厄贝沙坦）安博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副作用：与血管紧张素转换酶抑制剂相似，但较轻。血钾增高，血清肌酐暂时上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注意事项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降压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91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血管紧张素转换酶抑制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血管紧张素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Ⅱ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受体拮抗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钙通道阻滞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利尿药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β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受体阻滞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α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受体阻滞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钙通道阻滞剂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EI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相比具有以下特点：降血压效果强，疗效不受食盐摄入量影响，不诱发高血钾，不升高血肌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适用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EI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降压疗效不佳、中重度肾功能不全或肾动脉狭窄的患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常用药物：硝苯地平、缓释硝苯地平（拜新同）、非洛地平（波依定）、阿洛地平（络活喜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副作用：颜面潮红，心律失常：心动过速、传导阻滞，心衰加重，下肢水肿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降压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91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血管紧张素转换酶抑制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血管紧张素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Ⅱ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受体拮抗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钙通道阻滞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利尿药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β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受体阻滞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α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受体阻滞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β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受体阻滞剂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常用药物：心得安，倍他乐克，氨酰心安，康可、博苏、洛雅，达力全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事项：患有哮喘、心动过缓或传导阻滞、低血压的患者禁用，诱发或加重心衰，有周围血管病变的患者慎用，影响糖代谢，抑制胰岛素的释放，减弱交感神经对低血糖的反应，影响脂代谢，用药期间监测心率、血压、血脂、血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主要分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减少尿蛋白的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降压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利尿消肿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营养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改善贫血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治疗肾性骨病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胃肠道吸附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酸碱平衡的调节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降压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91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血管紧张素转换酶抑制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血管紧张素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Ⅱ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受体拮抗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钙通道阻滞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利尿药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β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受体阻滞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α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受体阻滞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α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受体阻滞剂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常用药物：压宁定，高特灵，马沙尼，络欣平，哌唑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副作用：体位性低血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事项：起始小剂量，睡前服用，慢坐慢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主要分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减少尿蛋白的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降压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利尿消肿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营养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改善贫血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治疗肾性骨病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胃肠道吸附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酸碱平衡的调节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利尿消肿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襻利尿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噻嗪类利尿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保钾利尿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襻利尿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常用药物：呋塞米（速尿） ，布美他尼（丁脲胺、利了），托拉噻米（伊迈格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点：作用较强较快，对于肾功能中重度受损的病人仍有利尿作用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副作用：水电解质紊乱：如低钾；影响血糖、血脂、血尿酸代谢；耳毒性；肾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注意事项：不要长期大量使用，最好与保钾利尿剂合用，用药期间应注意监测血电解质、血糖、血尿酸、血脂、血肌酐、尿素氮、血压和听力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利尿消肿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襻利尿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噻嗪类利尿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保钾利尿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噻嗪类利尿剂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常用药物：氢氯噻嗪（双氢克尿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特点：除利尿、消肿、降压作用外，还可用于中枢性和肾性尿崩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副作用：除了未见明显的耳毒性之外，与袢利尿剂相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事项：一般不用于重度肾功能受损的患者及痛风患者，最好与保钾利尿剂合用，用药期间应注意监测血电解质、血糖、血尿酸、血脂、血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利尿消肿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襻利尿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噻嗪类利尿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保钾利尿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保钾利尿剂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常用药物：氨苯喋啶；安体舒通，螺内酯；阿米洛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点：常常与袢利尿剂或噻嗪类利尿剂合用，既能增强利尿及降压效应，又有利于预防低钾血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注意事项：不能用于严重肾功能不全的病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常见的不良反应：高钾血症（当与血管紧张素转换酶抑制剂、血管紧张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体拮抗剂、含钾药物、库存血等合用时，高钾血症的发生率明显增加），有干扰血糖、血脂、尿酸的代谢的作用，用药期间应注意监测血电解质、血糖、血尿酸、血脂、血压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主要分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减少尿蛋白的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降压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利尿消肿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营养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改善贫血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治疗肾性骨病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胃肠道吸附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酸碱平衡的调节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减少尿蛋白的药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糖皮质激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强的松，强的松龙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甲基强的松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剂：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环孢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骁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爱若华 ；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环磷酰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氮芥，瘤可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他：血管紧张素转换酶抑制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E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，血管紧张素Ⅱ受体拮抗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RB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中药（雷公藤多甙，冬虫夏草，保肾康，肾炎康复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营养治疗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同 （复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酮酸片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成分：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种酮氨基酸钙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种羟氨基酸钙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种必需氨基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作用机制：在体内由于再利用了氮，故而抑制了尿素产生，改善了蛋白质代谢。在临床上作为重要的营养手段，配合低蛋白饮食，预防和治疗因慢性肾功能不全而造成蛋白质代谢失调引起的损害，延缓肾脏病进展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不良反应：高钙血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注意事项：与钙剂、活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tD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合用增加高钙血症的发生率；四环素、喹诺酮类、铁剂、氟化物等会影响开同的吸收，不应与开同同时服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主要分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减少尿蛋白的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降压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利尿消肿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营养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改善贫血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治疗肾性骨病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胃肠道吸附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酸碱平衡的调节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改善贫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37920" y="2209680"/>
            <a:ext cx="5257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促红细胞生成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铁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促红细胞生成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常用药物：利血宝，罗可曼，益比奥，济脉欣，副作用：高血压常见，少见的副作用为癫痫、透析通路的血栓、高钾血症和纯红再障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事项：造血原料（铁、叶酸或维生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1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缺乏、失血、感染和炎症、恶性肿瘤、甲旁亢伴骨髓纤维化、铝中毒等因素会影响促红细胞生成素的疗效。应持续应用，每两周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次血常规以决定用量的增减，不能擅自停药，否则贫血会迅速再现或加重，得不偿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改善贫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37920" y="2209680"/>
            <a:ext cx="5257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促红细胞生成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铁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铁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常用的铁剂 ：静脉铁：低分子右旋糖苷铁（科莫非） ，蔗糖铁（森铁能）；口服铁：琥珀酸亚铁（速力菲），富马酸亚铁（富血铁），硫酸亚铁（福乃得） ，葡萄糖酸亚铁，乳酸亚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副作用：胃肠道刺激：腹痛、恶心、呕吐、腹泻、便秘、黑便，口服多见；铁超负荷；罕见过敏性休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注意事项：宜在饭后服用，静脉铁需行铁过敏试验，应定期监测血色素、血球压积、血清铁、总铁结合力和铁蛋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主要分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减少尿蛋白的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降压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利尿消肿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营养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改善贫血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治疗肾性骨病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胃肠道吸附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酸碱平衡的调节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调节钙磷代谢，治疗肾性骨病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磷结合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活性维生素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D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磷结合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常用药物：碳酸钙（健骨钙、盖舒泰、凯思立）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作用：结合食物中的磷，以纠正低钙高磷血症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副作用：高钙血症，转移性钙化；便秘、腹泻、消化不良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注意事项：嚼碎与饭同时服用；在与活性维生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高钙透析液、钙通道阻滞剂、开同等合用时，更容易发生高钙血症；用药过程中应该定期进行血钙和血磷的监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调节钙磷代谢，治疗肾性骨病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磷结合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活性维生素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D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糖皮质激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常用药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强的松，强的松龙，甲基强的松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适应症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原发性肾病综合征，原发性肾小球肾炎，急进性肾小球肾炎，部分继发性肾小球病（狼疮、紫癜、血管炎等），过敏性间质性肾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常见的副作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体重增加，痤疮、紫纹，继发高血压，类固醇糖尿病，骨质疏松、股骨头坏死，消化道出血，电解质紊乱，精神兴奋，免疫力低下导致感染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用药原则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起始足量、缓慢减量、小剂量维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用药注意事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晨起顿服，不能擅自减药或停药，用药期间监测血压、血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禁忌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骨折、重度高血压、活动性溃疡病、糖尿病、创伤、妊娠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活性维生素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化学成分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25-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二羟基维生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或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α-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单羟基维生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3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商品名叫罗盖全、溉纯、盖三醇、阿发迪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作用：纠正低钙血症，抑制慢性肾功能不全导致的继发性甲状旁腺功能亢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治疗方案：静脉注射或口服，冲击治疗和维持治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副作用：高钙、高磷，转移性钙化；动力缺失性骨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注意事项：用于纠正低钙血症，应与餐同服；用于抑制继发性甲状旁腺机能亢进，则应于晚临睡前服用；在开始活性维生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治疗、冲击治疗、增加或减少剂量时要密切监测血钙、血磷、甲状旁腺激素的水平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主要分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减少尿蛋白的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降压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利尿消肿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营养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改善贫血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治疗肾性骨病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胃肠道吸附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酸碱平衡的调节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胃肠道吸附剂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药用炭片：商品名叫爱西特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从胃肠道中吸附肌酐、尿酸等有毒物质，将其排出体外，从而降低血肌酐水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常见的不良反应为恶心、消化不良、便秘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需要注意的是如果与维生素、抗生素、洋地黄等药物合用时，会吸附并减弱这些药物的作用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尿毒清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中药制剂，通过吸附降低血尿素氮和肌酐水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常见的副作用为腹泻，服药后大便呈糊状为正常现象，如呈水样则需要减量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包醛氧淀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通过吸附降低血尿素氮和肌酐水平，不宜与尿毒清同服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主要分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减少尿蛋白的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降压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利尿消肿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营养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改善贫血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治疗肾性骨病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胃肠道吸附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酸碱平衡的调节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酸碱平衡的调节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碳酸氢钠 （小苏打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应症：纠正慢性肾功能不全的患者的代谢性酸中毒，用于痛风或高尿酸血症的患者碱化尿液，防止形成尿酸结石而损害肾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副作用：代谢性碱中毒，钠负荷过高而引起水肿、高血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762120" y="1295280"/>
            <a:ext cx="723888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减少尿蛋白的药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糖皮质激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强的松，强的松龙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甲基强的松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剂：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环孢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骁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爱若华 ；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环磷酰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氮芥，瘤可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他：血管紧张素转换酶抑制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E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，血管紧张素Ⅱ受体拮抗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RB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中药（雷公藤多甙，冬虫夏草，保肾康，肾炎康复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环孢素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（山地明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适应症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 主要用于肝、肾以及心脏移植的抗排异反应，可与肾上腺皮质激素同用，也可用于一些免疫性疾病的治疗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用法用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口服：器官移植前的首次量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mg/kg/d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于术前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小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次口服，按此剂量维持到术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，然后根据肌酐和山地明血药浓度，每周减少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％，直到维持量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mg/kg/d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注：仅用于不能口服的病人，首次静脉注射量应在移植前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小时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mg/kg/d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相当于口服量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，按此剂量可持续到手术后，直到可以口服山地明为止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注意事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肾毒性，肝毒性，神经系统及胃肠道反应，高血压，多毛症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以下儿童不宜用。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减少尿蛋白的药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糖皮质激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强的松，强的松龙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甲基强的松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剂：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环孢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骁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爱若华 ；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环磷酰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氮芥，瘤可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他：血管紧张素转换酶抑制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E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，血管紧张素Ⅱ受体拮抗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RB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中药（雷公藤多甙，冬虫夏草，保肾康，肾炎康复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骁悉（霉酚酸酯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适应症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骁悉可用于预防同种肾移植病人的排斥反应，及治疗难治性排斥反应，骁悉可与环孢素和肾上腺皮质激素同时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法用量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移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小时内开始服用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g bid;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难治性排斥患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5g 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注意事项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呕吐、腹泻等胃肠道症状，白细胞减少症，败血症，尿频以及某些类型的感染的发生率增加。偶见血尿酸升高、高血钾、肌痛或嗜睡 ；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MF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P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发生过敏反应的病人不能使用本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减少尿蛋白的药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糖皮质激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强的松，强的松龙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甲基强的松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剂：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环孢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骁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爱若华 ；</a:t>
            </a:r>
            <a:r>
              <a:rPr b="0" lang="zh-CN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环磷酰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氮芥，瘤可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他：血管紧张素转换酶抑制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E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，血管紧张素Ⅱ受体拮抗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RB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中药（雷公藤多甙，冬虫夏草，保肾康，肾炎康复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16:27:01Z</dcterms:created>
  <dc:creator/>
  <dc:description/>
  <dc:language>en-US</dc:language>
  <cp:lastModifiedBy>LENOVO</cp:lastModifiedBy>
  <dcterms:modified xsi:type="dcterms:W3CDTF">2014-10-29T16:28:23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  <property fmtid="{D5CDD505-2E9C-101B-9397-08002B2CF9AE}" pid="3" name="Version">
    <vt:r8>1</vt:r8>
  </property>
</Properties>
</file>